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45F-8800-438D-B2E4-7A6A67C2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188-1E54-49C5-8CD6-3F40FD6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95D35-9869-499C-B5F4-0DD1A6B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78EF-8643-463E-B819-C01B664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26F5-7645-498C-BF90-FB5C27BE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8825A-6948-497D-A687-C83FD15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F110A-9C9F-410E-A858-8F24D1C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381F0-FCC9-408D-B659-C0B9720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D37C2-D775-4270-BBD4-FBE4720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44013-C9D1-4E91-8198-614DDC71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442CA-1E65-4744-80D5-DB0EF476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1BAF1-DA44-4F98-BF44-5523F5E7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11E-9BA0-4509-87AF-49314DAF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F4A40-BB2D-4241-A1F5-4183910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3B5C1-71EB-41C3-BF04-9E8694C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C5889-64AA-4BB6-A893-8222FFE2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C7C4F-E019-4A00-9249-05A833E3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BFA44-1B7A-4319-A469-F9E884E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FA5A-BFB8-4606-811B-948BDFC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7573D-3CA1-4067-98E8-D34F877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7078-DFBB-4C58-9B0F-EA33136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E02A7-7272-427C-900F-0FAC18CA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4C115-A39A-4D14-BA5F-725E8B01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B4E-25D0-4209-9BED-8E0A7529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509E5-E2FD-4557-9DF2-F6C29A1F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876C-E5C1-43B9-888A-91421749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2E3A-D29A-4867-BD4A-17D4632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1AD2-267C-4424-A431-F0E1EF0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ABDC0-05D7-4A15-A172-2AF4D83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7E04-B813-4B82-9583-D0E53DAA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63EC9-22CA-482B-851C-2CF127C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3887-CC5E-48E9-86C0-145665F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C5B20-6A00-403F-8E70-304F64F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4BBD5-92ED-46D7-B9F1-F338C03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D43-2840-4D6F-86CF-A4B4AA2A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E632-E871-4A19-BD6D-6AC1B845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5B39-C735-436D-87FA-481F2325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74FF-F494-4211-B9BF-6ED31B3F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4D6F9-9353-4859-9FC2-E9561318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341D7-D897-4F86-B273-23DEF32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C68BD-33EF-4A7C-97E1-F8A60E7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693CD-56D7-45EC-B492-794DB19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0A111-871F-4788-87C4-0F9FCDC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84FE1-02F6-4726-894E-D47DBB7F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48FC7-69B1-4C0F-BE5F-6D257F1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5D2-A214-43AD-96DB-E2F8570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9D360-B5BB-4094-B68B-EA98067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BC0D3-AF9F-487E-94EC-A99572F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2CB3E-70C9-471B-8DB9-E6A3D069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EDC88-F7BA-485C-96AD-C1C43556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E949F-7F08-449F-A72B-19BB024A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794B7-8457-46B2-9C60-ACD3BCAD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B0362-7E0F-4760-AE96-AE4250E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1B0E9-8951-405E-9556-219ECB0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2D46-047D-45D7-9726-B196B1C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945F1-8123-4CEA-89FC-6A427DE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EB02-6C3C-464D-B805-6991E63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5D650-1B85-42E5-B138-823F89E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0AF1B-A45A-47E0-B03A-4FAD014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21904-EBBB-4B25-92CB-FC7E92DD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09CEA-F44A-404A-BDF3-F26E84A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EC95D-901D-4935-A421-8A3CB9A7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55982-7D00-425E-A515-BBDD02BB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298DF-ED0B-42CA-B8B0-E59FC20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FA0-1328-4165-942F-7CAE3BF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B305-D24C-4CA8-8112-69D4F18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68A0-C99C-4C30-B590-796B67D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13F-4CB2-4836-A37B-B8F593F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88D-B7ED-47B2-A830-9195843E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8DA-1251-4F9D-A523-3152181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4F84-F7A7-4221-8BCE-8F2EC90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A4D-26F0-4717-BFBB-9E2FE2C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82F-98EC-4B91-9B56-94A460A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5956-2496-4417-BEC9-86BB115A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5626-E031-41EC-AAF1-C5077E4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0718-7717-4C2B-9BE0-610DF3D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FAD9-CA38-4544-974D-FD1B6E9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3CC0-E8D3-41EF-9EA2-AE47C62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7BAF-F6D0-4474-A2E4-94EE68E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96B-3F4E-45D6-B123-B73B6855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1A23-6361-4C34-933C-3E83F652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B05A-B5D5-4468-992A-7ABAC8A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1217-D3CA-49E8-BFD8-512E4D2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5993-98B5-42B5-A10E-4548DB0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537B-8A65-44E8-A581-31CF9BF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22D0-AC9D-4B68-B593-DA19A88C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697F-D86F-4DEE-AF76-C9B6AF88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AB67-5088-46FF-8C26-B22CF0C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CD07-7012-4C17-9195-D2C890A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C518-7110-4100-8B27-F770C5F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2F8-DC62-4B18-9F97-0B29D9C0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B087-8E1D-4064-A792-FA48DA9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3E94-EBB8-4BC7-8672-A32A995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54B5-B054-4E88-A16F-E34797D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00A4-309C-4393-B312-A80537A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9831-B165-4F34-8D4F-13E1C1D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90A4-D85B-4E96-8E14-06C5DEC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7979-61A9-4755-9712-784F8EE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CE1D-A6D9-44C6-AAEF-10589302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69A5-676C-47B3-A1DC-2C4519C0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68AE9-EC81-4055-BBAC-66127B8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005-40B7-40D2-AC37-073F67A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88A0-E39A-4620-B820-A68F8D7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91487-98AC-44DE-84C6-AF299BE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6F4D-DFF2-4E39-8A75-832560E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712ED-0119-4604-8F46-024A7F9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4A66-577F-423A-8FB7-8670E69E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D52F-D416-42D6-84BF-9C6FDC8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48CD-E015-4E1F-ADAD-7EA66BD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9054-9420-4CD2-A1D6-6160E37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6AD9B-5FE6-42B3-B7BB-8889C7DF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C0F8-B0DA-4012-AA1C-A8B620AC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C10-46B5-4CDA-90A7-FFAD5C8D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5914-ADF6-4AE3-A546-A4C76FF7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B904-DD42-4DBC-AE56-6A5B8E4D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82C5-B6AB-4EB6-85CB-F9B12CFC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5F47-E5E4-4151-9507-E5C737A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4B61-86B3-48F0-A3E1-5BA02118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14859-4D24-405C-BADF-044129E9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1606-F1AD-4122-9A9F-B80E4EF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AE8B-F26D-44E3-A57E-8945BF7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8AB9-541A-4020-AAD5-72CCD5B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EFE6-8B71-441F-A0A5-9DEE6752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D4E-69C3-4703-A93B-E3C66BE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2F24-5954-4524-A305-C0BB3ED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F012-FC30-49DF-B8FF-B3830B6D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5104-D1A9-4657-B9FC-17B66325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E5357-8095-4586-9FF1-D31B70C3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1607-F8F8-4DA7-95B6-593E337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5DAA-AD56-4970-B194-611A1D1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AF20-08F7-4C5C-AFDA-58BB3C4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F862-69CD-47B5-A2AD-2996F6C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311C4-3F9D-4972-8D00-C82B163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2DEA-B7FC-490F-BAAE-36DA9F4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536-0020-4BC2-9644-700CC4A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2361-A542-4DE5-B81D-6D29430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89B8-E465-4B8B-9C58-CB0A7C2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FB996-23AB-4D90-BA75-9C94627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1390-7BC3-478D-B930-391C1C1A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9015-6F9D-4A84-A9E1-857CD2DA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6A88-BD22-45D0-894B-E42DBDCD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696BF-F56D-4F96-9511-EC7D1FE9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1084-F27B-4788-8338-0D36051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73F0-F8C7-4F38-9B73-EA4718F7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38D77-B7FF-4C4F-AC90-059E3A8D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4BE-7544-4675-B94C-8310F18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097C-4F4A-4B8A-9DFC-B04D784A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EE227-F038-4B97-AE79-AEE2659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0CFC-8053-41F1-80D4-A729535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9B6B-CD89-4B69-93F2-BA36EB3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BE48-B593-4EFF-88BC-8BA1414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6124C-72B4-4A03-A3B1-48C30653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CAEC-829A-43E8-A681-72004732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29FEF-589C-4751-9D8F-2014A3B5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DB5D0-FD02-4BC9-BE43-5583E13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D4D27-708D-4408-A34F-42FAB6B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304-6B0E-49F6-AF47-E4392855AAD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E7B5-50B1-4D93-8B8E-A6A2DEA20B9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6A08-58C7-422D-AF6C-503DB6F9AD89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672-F16B-4861-8811-D90B16F16AC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960-A873-4E53-A085-11C930379FB6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2CE-DCE2-4EB5-87D4-08BFB553D92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B7D-85BE-41F4-987D-6939E5A43509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0656-63A8-49C7-8CC8-DAEF8ACEF8D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24F-CBFA-4A77-96D5-22D56D71C5E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11ED-E6CF-4646-ADAF-60F361A28FB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B59E-5AD7-47B2-8869-673009B3E50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1375-BE32-4ED9-9984-35644E17A84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941-8B29-44A4-8626-A87BCB38BC2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A5DD-88DF-435F-9539-4C2EB798914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8F8C-DB7C-4DE4-93C9-0C09AD866EA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48E-872A-4C40-B18E-54E42AC2D20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63B-62AC-462A-96A6-706393A8D59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321A-5FBD-4605-8C89-9F09F21888D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547-96B6-44F5-8B6E-4C7B7A4882E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69F-6773-4E31-B3CC-339C71CF29A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489-190E-4028-BF8D-FB96D278A5F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6838-7668-478E-B4D8-8D450038BB3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C40-7434-49D3-86BA-4E7F8590C6F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8301-80D0-4C55-A1B7-9CA2354EE8B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05C4-690D-4A79-ACDF-8C56712189B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A6A-D54D-48F2-8706-0A736C910C8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sto MT"/>
              </a:rPr>
              <a:t>USES OF PROMISSORY NOTES</a:t>
            </a:r>
            <a:endParaRPr b="0" lang="en-US" sz="3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536" name="Picture 4" descr="D:\C21 PowerPoint\Multi_Journal\art for blue\Ch23\Ch23-01a.jpg"/>
          <p:cNvPicPr/>
          <p:nvPr/>
        </p:nvPicPr>
        <p:blipFill>
          <a:blip r:embed="rId2"/>
          <a:srcRect l="7845" t="0" r="0" b="53787"/>
          <a:stretch/>
        </p:blipFill>
        <p:spPr>
          <a:xfrm>
            <a:off x="457200" y="914400"/>
            <a:ext cx="7467480" cy="3881520"/>
          </a:xfrm>
          <a:prstGeom prst="rect">
            <a:avLst/>
          </a:prstGeom>
          <a:ln w="0">
            <a:noFill/>
          </a:ln>
        </p:spPr>
      </p:pic>
      <p:sp>
        <p:nvSpPr>
          <p:cNvPr id="537" name="Oval 5"/>
          <p:cNvSpPr/>
          <p:nvPr/>
        </p:nvSpPr>
        <p:spPr>
          <a:xfrm>
            <a:off x="152280" y="2971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2286000" y="1143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9"/>
          <p:cNvSpPr/>
          <p:nvPr/>
        </p:nvSpPr>
        <p:spPr>
          <a:xfrm>
            <a:off x="7543800" y="1219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14440" y="569124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e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14440" y="49528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umber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514440" y="6054840"/>
            <a:ext cx="30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14440" y="53182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3809880" y="4952880"/>
            <a:ext cx="32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809880" y="5318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 r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3809880" y="568152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Maturity d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809880" y="6039000"/>
            <a:ext cx="33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Maker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9"/>
          <p:cNvSpPr/>
          <p:nvPr/>
        </p:nvSpPr>
        <p:spPr>
          <a:xfrm>
            <a:off x="7315200" y="3505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20"/>
          <p:cNvSpPr/>
          <p:nvPr/>
        </p:nvSpPr>
        <p:spPr>
          <a:xfrm>
            <a:off x="152280" y="4114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23"/>
          <p:cNvGrpSpPr/>
          <p:nvPr/>
        </p:nvGrpSpPr>
        <p:grpSpPr>
          <a:xfrm>
            <a:off x="7848720" y="2320920"/>
            <a:ext cx="914400" cy="533520"/>
            <a:chOff x="7848720" y="2320920"/>
            <a:chExt cx="914400" cy="533520"/>
          </a:xfrm>
        </p:grpSpPr>
        <p:sp>
          <p:nvSpPr>
            <p:cNvPr id="551" name="Line 22"/>
            <p:cNvSpPr/>
            <p:nvPr/>
          </p:nvSpPr>
          <p:spPr>
            <a:xfrm flipH="1">
              <a:off x="7848720" y="259092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8229600" y="23209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2971440" y="1600200"/>
            <a:ext cx="686160" cy="1066680"/>
            <a:chOff x="2971440" y="1600200"/>
            <a:chExt cx="686160" cy="1066680"/>
          </a:xfrm>
        </p:grpSpPr>
        <p:sp>
          <p:nvSpPr>
            <p:cNvPr id="554" name="Line 24"/>
            <p:cNvSpPr/>
            <p:nvPr/>
          </p:nvSpPr>
          <p:spPr>
            <a:xfrm flipH="1">
              <a:off x="2971440" y="2057400"/>
              <a:ext cx="30492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3124080" y="16002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27"/>
          <p:cNvGrpSpPr/>
          <p:nvPr/>
        </p:nvGrpSpPr>
        <p:grpSpPr>
          <a:xfrm>
            <a:off x="3851280" y="3886200"/>
            <a:ext cx="533520" cy="938160"/>
            <a:chOff x="3851280" y="3886200"/>
            <a:chExt cx="533520" cy="938160"/>
          </a:xfrm>
        </p:grpSpPr>
        <p:sp>
          <p:nvSpPr>
            <p:cNvPr id="557" name="Oval 18"/>
            <p:cNvSpPr/>
            <p:nvPr/>
          </p:nvSpPr>
          <p:spPr>
            <a:xfrm>
              <a:off x="3851280" y="429084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6"/>
            <p:cNvSpPr/>
            <p:nvPr/>
          </p:nvSpPr>
          <p:spPr>
            <a:xfrm flipV="1">
              <a:off x="4114800" y="388620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2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sto MT"/>
              </a:rPr>
              <a:t>INTEREST ON PROMISSORY NOTES</a:t>
            </a:r>
            <a:endParaRPr b="0" lang="en-US" sz="3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80880" y="1558800"/>
            <a:ext cx="7431120" cy="1008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14"/>
          <p:cNvGrpSpPr/>
          <p:nvPr/>
        </p:nvGrpSpPr>
        <p:grpSpPr>
          <a:xfrm>
            <a:off x="457200" y="914400"/>
            <a:ext cx="5486400" cy="764640"/>
            <a:chOff x="457200" y="914400"/>
            <a:chExt cx="5486400" cy="764640"/>
          </a:xfrm>
        </p:grpSpPr>
        <p:grpSp>
          <p:nvGrpSpPr>
            <p:cNvPr id="563" name="Group 4"/>
            <p:cNvGrpSpPr/>
            <p:nvPr/>
          </p:nvGrpSpPr>
          <p:grpSpPr>
            <a:xfrm>
              <a:off x="457200" y="914400"/>
              <a:ext cx="685440" cy="685440"/>
              <a:chOff x="457200" y="914400"/>
              <a:chExt cx="685440" cy="685440"/>
            </a:xfrm>
          </p:grpSpPr>
          <p:sp>
            <p:nvSpPr>
              <p:cNvPr id="564" name="Text Box 5"/>
              <p:cNvSpPr/>
              <p:nvPr/>
            </p:nvSpPr>
            <p:spPr>
              <a:xfrm>
                <a:off x="457200" y="9144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6"/>
              <p:cNvSpPr/>
              <p:nvPr/>
            </p:nvSpPr>
            <p:spPr>
              <a:xfrm>
                <a:off x="822240" y="9144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7"/>
              <p:cNvSpPr/>
              <p:nvPr/>
            </p:nvSpPr>
            <p:spPr>
              <a:xfrm>
                <a:off x="457200" y="128304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Text Box 8"/>
              <p:cNvSpPr/>
              <p:nvPr/>
            </p:nvSpPr>
            <p:spPr>
              <a:xfrm>
                <a:off x="822240" y="12805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Text Box 12"/>
            <p:cNvSpPr/>
            <p:nvPr/>
          </p:nvSpPr>
          <p:spPr>
            <a:xfrm>
              <a:off x="1305000" y="1219320"/>
              <a:ext cx="46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Interest for One Y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15"/>
          <p:cNvSpPr/>
          <p:nvPr/>
        </p:nvSpPr>
        <p:spPr>
          <a:xfrm>
            <a:off x="380880" y="3311640"/>
            <a:ext cx="7718400" cy="1008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as Fra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Y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ction of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16"/>
          <p:cNvGrpSpPr/>
          <p:nvPr/>
        </p:nvGrpSpPr>
        <p:grpSpPr>
          <a:xfrm>
            <a:off x="457200" y="2666880"/>
            <a:ext cx="6468480" cy="764640"/>
            <a:chOff x="457200" y="2666880"/>
            <a:chExt cx="6468480" cy="764640"/>
          </a:xfrm>
        </p:grpSpPr>
        <p:grpSp>
          <p:nvGrpSpPr>
            <p:cNvPr id="571" name="Group 17"/>
            <p:cNvGrpSpPr/>
            <p:nvPr/>
          </p:nvGrpSpPr>
          <p:grpSpPr>
            <a:xfrm>
              <a:off x="457200" y="2666880"/>
              <a:ext cx="685440" cy="685440"/>
              <a:chOff x="457200" y="2666880"/>
              <a:chExt cx="685440" cy="685440"/>
            </a:xfrm>
          </p:grpSpPr>
          <p:sp>
            <p:nvSpPr>
              <p:cNvPr id="572" name="Text Box 18"/>
              <p:cNvSpPr/>
              <p:nvPr/>
            </p:nvSpPr>
            <p:spPr>
              <a:xfrm>
                <a:off x="457200" y="26668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19"/>
              <p:cNvSpPr/>
              <p:nvPr/>
            </p:nvSpPr>
            <p:spPr>
              <a:xfrm>
                <a:off x="822240" y="26668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20"/>
              <p:cNvSpPr/>
              <p:nvPr/>
            </p:nvSpPr>
            <p:spPr>
              <a:xfrm>
                <a:off x="457200" y="30355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21"/>
              <p:cNvSpPr/>
              <p:nvPr/>
            </p:nvSpPr>
            <p:spPr>
              <a:xfrm>
                <a:off x="822240" y="30330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22"/>
            <p:cNvSpPr/>
            <p:nvPr/>
          </p:nvSpPr>
          <p:spPr>
            <a:xfrm>
              <a:off x="1304280" y="2971800"/>
              <a:ext cx="562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Interest for Fraction of Y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24"/>
          <p:cNvSpPr/>
          <p:nvPr/>
        </p:nvSpPr>
        <p:spPr>
          <a:xfrm>
            <a:off x="380880" y="5324400"/>
            <a:ext cx="5826600" cy="7038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urit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5"/>
          <p:cNvGrpSpPr/>
          <p:nvPr/>
        </p:nvGrpSpPr>
        <p:grpSpPr>
          <a:xfrm>
            <a:off x="457200" y="4495680"/>
            <a:ext cx="4554000" cy="764640"/>
            <a:chOff x="457200" y="4495680"/>
            <a:chExt cx="4554000" cy="764640"/>
          </a:xfrm>
        </p:grpSpPr>
        <p:grpSp>
          <p:nvGrpSpPr>
            <p:cNvPr id="579" name="Group 26"/>
            <p:cNvGrpSpPr/>
            <p:nvPr/>
          </p:nvGrpSpPr>
          <p:grpSpPr>
            <a:xfrm>
              <a:off x="457200" y="4495680"/>
              <a:ext cx="685440" cy="685440"/>
              <a:chOff x="457200" y="4495680"/>
              <a:chExt cx="685440" cy="685440"/>
            </a:xfrm>
          </p:grpSpPr>
          <p:sp>
            <p:nvSpPr>
              <p:cNvPr id="580" name="Text Box 27"/>
              <p:cNvSpPr/>
              <p:nvPr/>
            </p:nvSpPr>
            <p:spPr>
              <a:xfrm>
                <a:off x="457200" y="44956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28"/>
              <p:cNvSpPr/>
              <p:nvPr/>
            </p:nvSpPr>
            <p:spPr>
              <a:xfrm>
                <a:off x="822240" y="44956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Text Box 29"/>
              <p:cNvSpPr/>
              <p:nvPr/>
            </p:nvSpPr>
            <p:spPr>
              <a:xfrm>
                <a:off x="457200" y="48643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30"/>
              <p:cNvSpPr/>
              <p:nvPr/>
            </p:nvSpPr>
            <p:spPr>
              <a:xfrm>
                <a:off x="822240" y="48618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Text Box 31"/>
            <p:cNvSpPr/>
            <p:nvPr/>
          </p:nvSpPr>
          <p:spPr>
            <a:xfrm>
              <a:off x="1305360" y="4800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Maturity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Text Box 13"/>
          <p:cNvSpPr/>
          <p:nvPr/>
        </p:nvSpPr>
        <p:spPr>
          <a:xfrm>
            <a:off x="380880" y="2193840"/>
            <a:ext cx="72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3"/>
          <p:cNvSpPr/>
          <p:nvPr/>
        </p:nvSpPr>
        <p:spPr>
          <a:xfrm>
            <a:off x="380880" y="39466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/3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380520" y="5638680"/>
            <a:ext cx="54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sto MT"/>
              </a:rPr>
              <a:t>MATURITY DATE OF PROMISSORY NOTES</a:t>
            </a:r>
            <a:endParaRPr b="0" lang="en-US" sz="29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822240" y="990720"/>
            <a:ext cx="6569280" cy="31424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49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3, 90-Day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13-March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-June 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553080" y="15415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7"/>
          <p:cNvSpPr/>
          <p:nvPr/>
        </p:nvSpPr>
        <p:spPr>
          <a:xfrm>
            <a:off x="6553080" y="25844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8"/>
          <p:cNvSpPr/>
          <p:nvPr/>
        </p:nvSpPr>
        <p:spPr>
          <a:xfrm>
            <a:off x="6553080" y="3106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6553080" y="20620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514440" y="58276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31 days for M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514440" y="4792680"/>
            <a:ext cx="69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ubtract the date of the note from the number of days in the first mon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514440" y="6191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only 11 days in Ju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514440" y="5454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30 days for Apr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21:03:21Z</cp:lastPrinted>
  <dcterms:modified xsi:type="dcterms:W3CDTF">2011-11-24T23:20:59Z</dcterms:modified>
  <cp:revision>70</cp:revision>
  <dc:subject/>
  <dc:title>ADJUSTING ENTRY FOR SUPPLIES</dc:title>
</cp:coreProperties>
</file>